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gif" ContentType="image/gif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.gif" ContentType="image/gi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0CB4-0E99-49EA-BB97-B545248F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5EBD-D02A-46A9-9F3D-67156ACA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06F-3AF0-45D4-917A-F76550460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E03C-AA13-415D-98C0-4EEFDF0C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D64-4035-4E23-9C9E-73217C9C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CB4E-F60D-47E8-B384-CBB50FCE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416-E4BC-4F2C-9116-9CC1D06E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731-3A75-4F9A-86A3-5B1043FE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24B-D52F-4E93-ACE3-5843AFC6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5DE-D434-45E7-80C9-1ADE1BFB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228E-A72E-4435-B122-29274E2B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316-B438-4540-9BF9-AAD7D6E4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2E9B-21F5-435B-9AD5-A49B16DF4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13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3.wmf"/><Relationship Id="rId3" Type="http://schemas.openxmlformats.org/officeDocument/2006/relationships/image" Target="../media/image2.jpe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8920" y="333360"/>
            <a:ext cx="720072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ittle bear goes to the beach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96360" y="5753160"/>
            <a:ext cx="15476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mmy says always take some friends to the beach to look out for each 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2232000" cy="3152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995640" y="2060640"/>
            <a:ext cx="2016360" cy="1439640"/>
          </a:xfrm>
          <a:prstGeom prst="wedgeRectCallout">
            <a:avLst>
              <a:gd name="adj1" fmla="val -76773"/>
              <a:gd name="adj2" fmla="val 460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take some friends to the beach to look out for each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ddy knocked on Hippo’s do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2209680" cy="2610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211640" y="4076640"/>
            <a:ext cx="216072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40360" y="1989000"/>
            <a:ext cx="1800360" cy="1152720"/>
          </a:xfrm>
          <a:prstGeom prst="wedgeEllipseCallout">
            <a:avLst>
              <a:gd name="adj1" fmla="val -43740"/>
              <a:gd name="adj2" fmla="val 549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 Hippo lets go to the b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n they collected Bun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92360" y="2522520"/>
            <a:ext cx="22320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111720" cy="4365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580000" y="2133720"/>
            <a:ext cx="1873440" cy="12967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 Possum lets go to the b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rived at the beach YAY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451640" y="5373720"/>
            <a:ext cx="1692360" cy="1484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236000" y="5300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Y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36000" y="5373720"/>
            <a:ext cx="79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24000" y="5045040"/>
            <a:ext cx="1206360" cy="1812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924360" y="5483160"/>
            <a:ext cx="2016000" cy="1374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32000" y="5373720"/>
            <a:ext cx="1297080" cy="360360"/>
          </a:xfrm>
          <a:prstGeom prst="wedgeRectCallout">
            <a:avLst>
              <a:gd name="adj1" fmla="val -33351"/>
              <a:gd name="adj2" fmla="val 1420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5373720"/>
            <a:ext cx="1224000" cy="576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AY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ddy says to his friend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42920" y="3500280"/>
            <a:ext cx="3311640" cy="2951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564000" y="3213000"/>
            <a:ext cx="2448000" cy="1295640"/>
          </a:xfrm>
          <a:prstGeom prst="wedgeRectCallout">
            <a:avLst>
              <a:gd name="adj1" fmla="val -42995"/>
              <a:gd name="adj2" fmla="val 699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ember to swim between the flags so you don’t get caught in a 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put on their sunscreen, their hats and their long sleeved shirts now their all protec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2771640" cy="2087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227640" y="2205000"/>
            <a:ext cx="2594160" cy="2033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56000" y="3716280"/>
            <a:ext cx="352872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were  having a lovely time but they needed to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3311640" cy="2951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40360" y="3357720"/>
            <a:ext cx="1800000" cy="93636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…………………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 on more sun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132000" y="2521080"/>
            <a:ext cx="295272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ttle bear goes to the beach he need to pack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57610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t lunch YUM YUM!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35280" y="2205000"/>
            <a:ext cx="52578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have a big drink of wa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23032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n they went back in the water and had a great ti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5014800"/>
            <a:ext cx="1151280" cy="1843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203640" y="4149720"/>
            <a:ext cx="1441440" cy="107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419640" y="5384880"/>
            <a:ext cx="16556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’s time to go home so they dry them selves off with their towe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42483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went to Bunny’s house and dropped her of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3500280"/>
            <a:ext cx="3311640" cy="2951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48360" y="4292640"/>
            <a:ext cx="2160360" cy="1473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51280" y="4005360"/>
            <a:ext cx="1225440" cy="718920"/>
          </a:xfrm>
          <a:prstGeom prst="wedgeEllipseCallout">
            <a:avLst>
              <a:gd name="adj1" fmla="val -43782"/>
              <a:gd name="adj2" fmla="val 462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e B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56360" y="3429000"/>
            <a:ext cx="1224000" cy="720720"/>
          </a:xfrm>
          <a:prstGeom prst="wedgeEllipseCallout">
            <a:avLst>
              <a:gd name="adj1" fmla="val -55837"/>
              <a:gd name="adj2" fmla="val 1006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e B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n they went to Hippo’s house to Drop him o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50920" y="3357720"/>
            <a:ext cx="3311640" cy="2950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284720" y="3573360"/>
            <a:ext cx="1582560" cy="503280"/>
          </a:xfrm>
          <a:prstGeom prst="wedgeRoundRectCallout">
            <a:avLst>
              <a:gd name="adj1" fmla="val -54111"/>
              <a:gd name="adj2" fmla="val 11813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e hi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off to teddy’s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332000" y="1989000"/>
            <a:ext cx="56880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THE EN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118" name=""/>
          <p:cNvSpPr/>
          <p:nvPr/>
        </p:nvSpPr>
        <p:spPr>
          <a:xfrm>
            <a:off x="2556000" y="4508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By Meagan C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hat so his face doesn’t get bur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79640" y="2541600"/>
            <a:ext cx="518472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ong sleeved shirt so his arms and shoulders don’t get bur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41054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087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sunscreen to protect his body remember don’t forget your ears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132000" y="2521080"/>
            <a:ext cx="2952720" cy="24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owel to dry himself 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71640" y="2828880"/>
            <a:ext cx="42483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d of course don’t forget your lunch and a drink so you can have ENERGY!!!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35280" y="2205000"/>
            <a:ext cx="52578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e sure you drink lots of water so you don’t get dehydr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564000" y="2138400"/>
            <a:ext cx="23032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Teddy's all pack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87640" y="2852640"/>
            <a:ext cx="302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00:51:17Z</dcterms:created>
  <dc:creator>Admin</dc:creator>
  <dc:description/>
  <dc:language>en-US</dc:language>
  <cp:lastModifiedBy>Admin</cp:lastModifiedBy>
  <dcterms:modified xsi:type="dcterms:W3CDTF">2009-02-25T23:39:44Z</dcterms:modified>
  <cp:revision>4</cp:revision>
  <dc:subject/>
  <dc:title>Slide 1</dc:title>
</cp:coreProperties>
</file>